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45D-7913-4D7E-A102-42BF4197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818D-3D38-4391-BBA5-AAA55C7A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D3F-6C74-466A-BD7F-686188BB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A0CD-6328-491A-981E-8666B144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9DB0-3B41-452D-A5B6-973FB4A5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06D-1C76-4472-B9CE-54E668C5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0E52-EBC8-4EF3-9FDF-EF123FCE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565-C74D-46C7-930E-247FBFF1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64AF-E6C9-4E96-8C97-2451F291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10E4-24DF-4B48-8157-F05C634B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F593-4FB0-45DE-AC70-ADB477CB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F5E-EC91-4C3F-B7D3-6425BE2F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C286-6DC3-40A9-BBFB-A3F2AC5A3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321080" cy="364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407400">
            <a:off x="1692000" y="188640"/>
            <a:ext cx="5040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A GLOBALIZZAZION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19280" y="2060640"/>
            <a:ext cx="2951280" cy="1295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LOBALIZZ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817400">
            <a:off x="468000" y="260280"/>
            <a:ext cx="2558880" cy="1811520"/>
          </a:xfrm>
          <a:prstGeom prst="rightArrow">
            <a:avLst>
              <a:gd name="adj1" fmla="val 50000"/>
              <a:gd name="adj2" fmla="val 35314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IGLIOR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EZZI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TRASPO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2852640"/>
            <a:ext cx="122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321300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2000" y="364500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005360"/>
            <a:ext cx="1512720" cy="86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ILI DI VI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IU’ SIMI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1844640"/>
            <a:ext cx="2089440" cy="647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DUZIONE DISTA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851280" y="141264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620640"/>
            <a:ext cx="2522520" cy="863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IBERAZIONI CIRCOLAZI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 MER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100400">
            <a:off x="0" y="3284280"/>
            <a:ext cx="3019320" cy="2352600"/>
          </a:xfrm>
          <a:prstGeom prst="rightArrow">
            <a:avLst>
              <a:gd name="adj1" fmla="val 50000"/>
              <a:gd name="adj2" fmla="val 32085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MIGLIOR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MEZZI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COMUNICAZIONE</a:t>
            </a:r>
            <a:r>
              <a:rPr b="0" lang="it-IT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356000" y="2204640"/>
            <a:ext cx="172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3213000"/>
            <a:ext cx="2374920" cy="863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IBERA CIRCOLAZIONE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ERS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64360" y="4005360"/>
            <a:ext cx="503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4941720"/>
            <a:ext cx="3024360" cy="71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MIGR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 CITTA’ MULTICULTU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38:47Z</dcterms:created>
  <dc:creator>studente</dc:creator>
  <dc:description/>
  <dc:language>en-US</dc:language>
  <cp:lastModifiedBy>studente</cp:lastModifiedBy>
  <dcterms:modified xsi:type="dcterms:W3CDTF">2017-01-09T09:04:33Z</dcterms:modified>
  <cp:revision>6</cp:revision>
  <dc:subject/>
  <dc:title>Diapositiva 1</dc:title>
</cp:coreProperties>
</file>